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6CAC-D2CA-4AC3-BA15-BA5D2E79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0AAE-B7B1-4E98-87B8-F37D7790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686A-8102-4A6F-B928-687B61874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E5F3-A8AC-49C4-86D2-723DB2D9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F874-C1F0-45AF-85D2-D87851E55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4BEC-D15C-4BDC-8D8A-BA675131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0B81-E64B-45D9-8BE1-43FEB4B6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9040-F15D-4D52-844E-A3B531C1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3801-E152-4031-ACA1-3A767BC7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5D79-F654-4ADF-87EE-DF620BD2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5917-2859-40E5-B6E5-49A80C36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56FD-8CD0-46F5-A2BC-D4E3BD1F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83CA-18D3-4F3B-898D-95D48398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CAA7-6235-4985-8CBD-E3577B32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CF7F-2B91-4ED6-977E-56470424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DE2B-2FAA-4B48-97A5-CA5B7F44C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56C8-41DE-4F10-A7DC-F4588B45E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ADC3A-9747-4EEC-95A8-60063167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6FFCF-ED19-4CD4-BEC2-29745746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3D915-B607-4FCF-BD55-33EE0F4B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C6871-C4C8-4E69-804B-BC492F3B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AAEC3-0EAE-45E2-95B4-073FE543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1C7A-1CBD-49A9-B71C-43C9C6B6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4510D-7CD1-4B7F-8E38-F9657304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461CD-FBE2-486B-A0E1-5E9F2298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E2AB3-6F19-461C-A7DB-092D35F3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A648A-29B7-467E-8169-AA8789FB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27956-F244-4946-B1D0-CD3F4002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A88B6-385F-4D7A-8B9E-B0774C1A7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32C20-BCD5-4705-9715-7ADA9BA6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62541-9B93-4AD4-A6D0-B811DBAC3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D7A5E-B543-48DB-95BC-F425B38D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D6165-6D43-4E54-AB59-4056AB72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C7BA-15FB-40AD-89CD-0A61D609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62CD5-F197-4354-92A3-BA4FE64A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FF324-5C60-4011-81F8-5919F388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0C476-6A76-49BC-8693-90A2D24D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E9173-4F22-4813-AFFA-C1FE1166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0002B-4177-41FA-93A7-2BFA7423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598EB-72F8-4D83-959F-3C156B8E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D2211-A7FA-4635-9611-2F55EED1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9658C-F209-474A-8CF6-8C301A77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162B0-C556-42CB-A000-A190C8E6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C155D-6735-4176-A686-CAFF42B9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13E7-4E85-4369-8F4C-8A6AD1E8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FE22B-EEEB-401A-BB87-723D8B64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82261-57E8-4E17-B252-F48E958B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4A67E-DFDA-4368-B26F-D870109E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33CC2-97A8-49A3-95E9-6AD50BA5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0097A-1396-442B-B3B6-0E5A1382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7A4B7-2133-4B65-B11D-FF195DC7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9A4D7-5C47-4A2A-8EC0-471B1E61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309AA-EEDF-456B-9410-3492F670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06EFF-6BB9-4D6A-B18A-26EC44B0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3F4CF-2C54-4611-ACFC-B0F201DBC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8EB3-CF00-4E65-913A-A8D00CA5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822F1-7B80-4617-9797-4D597E41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52165-3FA4-4858-8CC6-1EAFECDDC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4ED10-F5A1-484F-A3C2-B0B0DE0E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5E3CA-119C-4C35-BCB1-E697545E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85EFA-1B1C-4497-9D0B-CE1C9A8D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0AB64-E291-4C5C-A8B0-53A3469E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E4BE1-33B0-403B-99BA-422B4748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4C704-17E2-4B10-82AC-ABE02EC3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B7F75-7F68-4000-9BDA-44480C79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3D512-3376-4BC4-9133-A0C17789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51F4-0B1D-4B91-A3CA-F8BD79EF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FB438-B7CC-4CCE-84BA-4749A98C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17B99-F453-492C-A2EE-5A37A85E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5675D-A450-4497-A54A-937DB802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CC26D-A1F4-479F-99E3-18A9F2A7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85B8D-EDB0-4F21-A272-E1E0A0E3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FB5B6-9A08-426F-855C-BB536F4D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FA283-85FB-45C6-9525-3397B59E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88FF5-DA37-4594-95D5-E539B07B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0CD49-4964-4E93-87EE-836C5E4E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DB47D-1B2C-41B5-879F-41ABC279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9AA0-FB35-414E-8394-CAD61B34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1D29D-6959-4A37-976F-A44AF7BA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9D752-830B-4585-9547-B4F426CE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8B47A-EE1A-4A2A-A0B1-2C68DB1E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5A599-AE77-4759-807C-9397B2D5E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F0A66-3852-4478-A573-67EB6B2C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14E12-4C49-40C6-88D4-FC28DDCDA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721CD-E19F-447B-A5F7-BED916DD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CE2DA-6B55-4AB2-817B-E889D99D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028C9-E105-4A6A-8F0B-E88BE9C0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7E313-5564-46D9-806C-373D4CB0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0D61-8304-4641-8748-392B5E01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722AD-DBC7-414B-B096-1765242B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94C6E-936A-415D-B78D-46DDC0CC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6FB16-58A9-4DD1-8B9A-D115A918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B7567-8921-43B0-90B3-6C81DCD7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5C5F8-B8EA-42D6-8C3B-DA6878D0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AD142-F720-4F47-AFCA-0E55FCE9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DE77E-4D9E-4F7A-8069-8CEDA0E98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未知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6920"/>
              <a:chOff x="5600880" y="5897520"/>
              <a:chExt cx="1256760" cy="82692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16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20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未知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未知"/>
              <p:cNvSpPr/>
              <p:nvPr/>
            </p:nvSpPr>
            <p:spPr>
              <a:xfrm>
                <a:off x="5867280" y="661968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未知"/>
              <p:cNvSpPr/>
              <p:nvPr/>
            </p:nvSpPr>
            <p:spPr>
              <a:xfrm>
                <a:off x="5600880" y="6200640"/>
                <a:ext cx="14076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未知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未知"/>
              <p:cNvSpPr/>
              <p:nvPr/>
            </p:nvSpPr>
            <p:spPr>
              <a:xfrm>
                <a:off x="6410160" y="5906880"/>
                <a:ext cx="151920" cy="4788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240"/>
                <a:ext cx="132840" cy="84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3960"/>
              <a:ext cx="2581200" cy="1084320"/>
              <a:chOff x="2819520" y="576396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720" y="6244920"/>
                <a:ext cx="1012680" cy="59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08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600" cy="4744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480" y="6345000"/>
                <a:ext cx="704520" cy="4096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480" y="6357600"/>
                <a:ext cx="655560" cy="381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920" y="6391080"/>
                <a:ext cx="485640" cy="3049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840" y="643860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3760"/>
                <a:ext cx="142920" cy="954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未知"/>
              <p:cNvSpPr/>
              <p:nvPr/>
            </p:nvSpPr>
            <p:spPr>
              <a:xfrm>
                <a:off x="4103640" y="606708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未知"/>
              <p:cNvSpPr/>
              <p:nvPr/>
            </p:nvSpPr>
            <p:spPr>
              <a:xfrm>
                <a:off x="3400560" y="6114960"/>
                <a:ext cx="1415880" cy="73332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未知"/>
              <p:cNvSpPr/>
              <p:nvPr/>
            </p:nvSpPr>
            <p:spPr>
              <a:xfrm>
                <a:off x="3305160" y="6076800"/>
                <a:ext cx="646200" cy="77148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未知"/>
              <p:cNvSpPr/>
              <p:nvPr/>
            </p:nvSpPr>
            <p:spPr>
              <a:xfrm>
                <a:off x="4741920" y="641952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未知"/>
              <p:cNvSpPr/>
              <p:nvPr/>
            </p:nvSpPr>
            <p:spPr>
              <a:xfrm>
                <a:off x="3283200" y="5849640"/>
                <a:ext cx="1325520" cy="2383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未知"/>
              <p:cNvSpPr/>
              <p:nvPr/>
            </p:nvSpPr>
            <p:spPr>
              <a:xfrm>
                <a:off x="2963880" y="611640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未知"/>
              <p:cNvSpPr/>
              <p:nvPr/>
            </p:nvSpPr>
            <p:spPr>
              <a:xfrm>
                <a:off x="4684680" y="595440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未知"/>
              <p:cNvSpPr/>
              <p:nvPr/>
            </p:nvSpPr>
            <p:spPr>
              <a:xfrm>
                <a:off x="3679920" y="5763960"/>
                <a:ext cx="171144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未知"/>
              <p:cNvSpPr/>
              <p:nvPr/>
            </p:nvSpPr>
            <p:spPr>
              <a:xfrm>
                <a:off x="5245200" y="647676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未知"/>
              <p:cNvSpPr/>
              <p:nvPr/>
            </p:nvSpPr>
            <p:spPr>
              <a:xfrm>
                <a:off x="2819520" y="583056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440" y="5333760"/>
              <a:ext cx="2144160" cy="1303200"/>
              <a:chOff x="6553440" y="5333760"/>
              <a:chExt cx="2144160" cy="1303200"/>
            </a:xfrm>
          </p:grpSpPr>
          <p:sp>
            <p:nvSpPr>
              <p:cNvPr id="35" name="未知"/>
              <p:cNvSpPr/>
              <p:nvPr/>
            </p:nvSpPr>
            <p:spPr>
              <a:xfrm>
                <a:off x="6667560" y="5400360"/>
                <a:ext cx="1906200" cy="11606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未知"/>
              <p:cNvSpPr/>
              <p:nvPr/>
            </p:nvSpPr>
            <p:spPr>
              <a:xfrm>
                <a:off x="6553440" y="5343120"/>
                <a:ext cx="86328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未知"/>
              <p:cNvSpPr/>
              <p:nvPr/>
            </p:nvSpPr>
            <p:spPr>
              <a:xfrm>
                <a:off x="7607160" y="5333760"/>
                <a:ext cx="96660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未知"/>
              <p:cNvSpPr/>
              <p:nvPr/>
            </p:nvSpPr>
            <p:spPr>
              <a:xfrm>
                <a:off x="8327880" y="636084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未知"/>
              <p:cNvSpPr/>
              <p:nvPr/>
            </p:nvSpPr>
            <p:spPr>
              <a:xfrm>
                <a:off x="7151400" y="6465600"/>
                <a:ext cx="111888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未知"/>
              <p:cNvSpPr/>
              <p:nvPr/>
            </p:nvSpPr>
            <p:spPr>
              <a:xfrm>
                <a:off x="8470800" y="5800320"/>
                <a:ext cx="22680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未知"/>
              <p:cNvSpPr/>
              <p:nvPr/>
            </p:nvSpPr>
            <p:spPr>
              <a:xfrm>
                <a:off x="8034120" y="5752800"/>
                <a:ext cx="13140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未知"/>
              <p:cNvSpPr/>
              <p:nvPr/>
            </p:nvSpPr>
            <p:spPr>
              <a:xfrm>
                <a:off x="7056360" y="5638680"/>
                <a:ext cx="1137960" cy="68400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未知"/>
              <p:cNvSpPr/>
              <p:nvPr/>
            </p:nvSpPr>
            <p:spPr>
              <a:xfrm>
                <a:off x="6904080" y="5571720"/>
                <a:ext cx="144252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未知"/>
              <p:cNvSpPr/>
              <p:nvPr/>
            </p:nvSpPr>
            <p:spPr>
              <a:xfrm>
                <a:off x="7245360" y="5543280"/>
                <a:ext cx="57888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未知"/>
              <p:cNvSpPr/>
              <p:nvPr/>
            </p:nvSpPr>
            <p:spPr>
              <a:xfrm>
                <a:off x="7084800" y="5648040"/>
                <a:ext cx="10440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560" y="5727600"/>
                <a:ext cx="822240" cy="5061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32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080" y="5794200"/>
                <a:ext cx="612720" cy="3697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480"/>
                <a:ext cx="472680" cy="2811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160" y="5870160"/>
                <a:ext cx="35208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2240" y="4800600"/>
              <a:ext cx="674640" cy="408960"/>
              <a:chOff x="8382240" y="4800600"/>
              <a:chExt cx="674640" cy="408960"/>
            </a:xfrm>
          </p:grpSpPr>
          <p:sp>
            <p:nvSpPr>
              <p:cNvPr id="53" name="未知"/>
              <p:cNvSpPr/>
              <p:nvPr/>
            </p:nvSpPr>
            <p:spPr>
              <a:xfrm>
                <a:off x="8382240" y="5057280"/>
                <a:ext cx="608040" cy="15228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未知"/>
              <p:cNvSpPr/>
              <p:nvPr/>
            </p:nvSpPr>
            <p:spPr>
              <a:xfrm>
                <a:off x="8437680" y="4800600"/>
                <a:ext cx="409680" cy="8532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未知"/>
              <p:cNvSpPr/>
              <p:nvPr/>
            </p:nvSpPr>
            <p:spPr>
              <a:xfrm>
                <a:off x="8961840" y="4866840"/>
                <a:ext cx="95040" cy="24732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未知"/>
              <p:cNvSpPr/>
              <p:nvPr/>
            </p:nvSpPr>
            <p:spPr>
              <a:xfrm>
                <a:off x="8533080" y="5152680"/>
                <a:ext cx="30492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未知"/>
              <p:cNvSpPr/>
              <p:nvPr/>
            </p:nvSpPr>
            <p:spPr>
              <a:xfrm>
                <a:off x="8420400" y="4828680"/>
                <a:ext cx="255600" cy="29520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>
                <a:off x="8714160" y="4828680"/>
                <a:ext cx="295200" cy="33300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未知"/>
              <p:cNvSpPr/>
              <p:nvPr/>
            </p:nvSpPr>
            <p:spPr>
              <a:xfrm>
                <a:off x="8485560" y="4854240"/>
                <a:ext cx="474480" cy="29484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080"/>
                <a:ext cx="360360" cy="209160"/>
                <a:chOff x="8542440" y="4897080"/>
                <a:chExt cx="360360" cy="20916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080"/>
                  <a:ext cx="360360" cy="209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040"/>
                  <a:ext cx="289080" cy="161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4880"/>
                  <a:ext cx="198720" cy="129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840" y="4960080"/>
                  <a:ext cx="115560" cy="7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BC65-E8AD-49E6-8030-883C0C757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未知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6920"/>
              <a:chOff x="5600880" y="5897520"/>
              <a:chExt cx="1256760" cy="82692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16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20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未知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未知"/>
              <p:cNvSpPr/>
              <p:nvPr/>
            </p:nvSpPr>
            <p:spPr>
              <a:xfrm>
                <a:off x="5867280" y="661968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未知"/>
              <p:cNvSpPr/>
              <p:nvPr/>
            </p:nvSpPr>
            <p:spPr>
              <a:xfrm>
                <a:off x="5600880" y="6200640"/>
                <a:ext cx="14076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未知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未知"/>
              <p:cNvSpPr/>
              <p:nvPr/>
            </p:nvSpPr>
            <p:spPr>
              <a:xfrm>
                <a:off x="6410160" y="5906880"/>
                <a:ext cx="151920" cy="4788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240"/>
                <a:ext cx="132840" cy="84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3960"/>
              <a:ext cx="2581200" cy="1084320"/>
              <a:chOff x="2819520" y="576396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720" y="6244920"/>
                <a:ext cx="1012680" cy="59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08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600" cy="4744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480" y="6345000"/>
                <a:ext cx="704520" cy="4096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480" y="6357600"/>
                <a:ext cx="655560" cy="381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920" y="6391080"/>
                <a:ext cx="485640" cy="3049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840" y="643860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3760"/>
                <a:ext cx="142920" cy="954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未知"/>
              <p:cNvSpPr/>
              <p:nvPr/>
            </p:nvSpPr>
            <p:spPr>
              <a:xfrm>
                <a:off x="4103640" y="606708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未知"/>
              <p:cNvSpPr/>
              <p:nvPr/>
            </p:nvSpPr>
            <p:spPr>
              <a:xfrm>
                <a:off x="3400560" y="6114960"/>
                <a:ext cx="1415880" cy="73332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未知"/>
              <p:cNvSpPr/>
              <p:nvPr/>
            </p:nvSpPr>
            <p:spPr>
              <a:xfrm>
                <a:off x="3305160" y="6076800"/>
                <a:ext cx="646200" cy="77148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未知"/>
              <p:cNvSpPr/>
              <p:nvPr/>
            </p:nvSpPr>
            <p:spPr>
              <a:xfrm>
                <a:off x="4741920" y="641952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未知"/>
              <p:cNvSpPr/>
              <p:nvPr/>
            </p:nvSpPr>
            <p:spPr>
              <a:xfrm>
                <a:off x="3283200" y="5849640"/>
                <a:ext cx="1325520" cy="2383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未知"/>
              <p:cNvSpPr/>
              <p:nvPr/>
            </p:nvSpPr>
            <p:spPr>
              <a:xfrm>
                <a:off x="2963880" y="611640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未知"/>
              <p:cNvSpPr/>
              <p:nvPr/>
            </p:nvSpPr>
            <p:spPr>
              <a:xfrm>
                <a:off x="4684680" y="595440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未知"/>
              <p:cNvSpPr/>
              <p:nvPr/>
            </p:nvSpPr>
            <p:spPr>
              <a:xfrm>
                <a:off x="3679920" y="5763960"/>
                <a:ext cx="171144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未知"/>
              <p:cNvSpPr/>
              <p:nvPr/>
            </p:nvSpPr>
            <p:spPr>
              <a:xfrm>
                <a:off x="5245200" y="647676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未知"/>
              <p:cNvSpPr/>
              <p:nvPr/>
            </p:nvSpPr>
            <p:spPr>
              <a:xfrm>
                <a:off x="2819520" y="583056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440" y="5333760"/>
              <a:ext cx="2144160" cy="1303200"/>
              <a:chOff x="6553440" y="5333760"/>
              <a:chExt cx="2144160" cy="1303200"/>
            </a:xfrm>
          </p:grpSpPr>
          <p:sp>
            <p:nvSpPr>
              <p:cNvPr id="140" name="未知"/>
              <p:cNvSpPr/>
              <p:nvPr/>
            </p:nvSpPr>
            <p:spPr>
              <a:xfrm>
                <a:off x="6667560" y="5400360"/>
                <a:ext cx="1906200" cy="11606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未知"/>
              <p:cNvSpPr/>
              <p:nvPr/>
            </p:nvSpPr>
            <p:spPr>
              <a:xfrm>
                <a:off x="6553440" y="5343120"/>
                <a:ext cx="86328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未知"/>
              <p:cNvSpPr/>
              <p:nvPr/>
            </p:nvSpPr>
            <p:spPr>
              <a:xfrm>
                <a:off x="7607160" y="5333760"/>
                <a:ext cx="96660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未知"/>
              <p:cNvSpPr/>
              <p:nvPr/>
            </p:nvSpPr>
            <p:spPr>
              <a:xfrm>
                <a:off x="8327880" y="636084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未知"/>
              <p:cNvSpPr/>
              <p:nvPr/>
            </p:nvSpPr>
            <p:spPr>
              <a:xfrm>
                <a:off x="7151400" y="6465600"/>
                <a:ext cx="111888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未知"/>
              <p:cNvSpPr/>
              <p:nvPr/>
            </p:nvSpPr>
            <p:spPr>
              <a:xfrm>
                <a:off x="8470800" y="5800320"/>
                <a:ext cx="22680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未知"/>
              <p:cNvSpPr/>
              <p:nvPr/>
            </p:nvSpPr>
            <p:spPr>
              <a:xfrm>
                <a:off x="8034120" y="5752800"/>
                <a:ext cx="13140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未知"/>
              <p:cNvSpPr/>
              <p:nvPr/>
            </p:nvSpPr>
            <p:spPr>
              <a:xfrm>
                <a:off x="7056360" y="5638680"/>
                <a:ext cx="1137960" cy="68400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未知"/>
              <p:cNvSpPr/>
              <p:nvPr/>
            </p:nvSpPr>
            <p:spPr>
              <a:xfrm>
                <a:off x="6904080" y="5571720"/>
                <a:ext cx="144252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未知"/>
              <p:cNvSpPr/>
              <p:nvPr/>
            </p:nvSpPr>
            <p:spPr>
              <a:xfrm>
                <a:off x="7245360" y="5543280"/>
                <a:ext cx="57888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未知"/>
              <p:cNvSpPr/>
              <p:nvPr/>
            </p:nvSpPr>
            <p:spPr>
              <a:xfrm>
                <a:off x="7084800" y="5648040"/>
                <a:ext cx="10440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560" y="5727600"/>
                <a:ext cx="822240" cy="5061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32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080" y="5794200"/>
                <a:ext cx="612720" cy="3697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480"/>
                <a:ext cx="472680" cy="2811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160" y="5870160"/>
                <a:ext cx="35208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2240" y="4800600"/>
              <a:ext cx="674640" cy="408960"/>
              <a:chOff x="8382240" y="4800600"/>
              <a:chExt cx="674640" cy="408960"/>
            </a:xfrm>
          </p:grpSpPr>
          <p:sp>
            <p:nvSpPr>
              <p:cNvPr id="158" name="未知"/>
              <p:cNvSpPr/>
              <p:nvPr/>
            </p:nvSpPr>
            <p:spPr>
              <a:xfrm>
                <a:off x="8382240" y="5057280"/>
                <a:ext cx="608040" cy="15228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未知"/>
              <p:cNvSpPr/>
              <p:nvPr/>
            </p:nvSpPr>
            <p:spPr>
              <a:xfrm>
                <a:off x="8437680" y="4800600"/>
                <a:ext cx="409680" cy="8532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未知"/>
              <p:cNvSpPr/>
              <p:nvPr/>
            </p:nvSpPr>
            <p:spPr>
              <a:xfrm>
                <a:off x="8961840" y="4866840"/>
                <a:ext cx="95040" cy="24732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未知"/>
              <p:cNvSpPr/>
              <p:nvPr/>
            </p:nvSpPr>
            <p:spPr>
              <a:xfrm>
                <a:off x="8533080" y="5152680"/>
                <a:ext cx="30492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未知"/>
              <p:cNvSpPr/>
              <p:nvPr/>
            </p:nvSpPr>
            <p:spPr>
              <a:xfrm>
                <a:off x="8420400" y="4828680"/>
                <a:ext cx="255600" cy="29520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未知"/>
              <p:cNvSpPr/>
              <p:nvPr/>
            </p:nvSpPr>
            <p:spPr>
              <a:xfrm>
                <a:off x="8714160" y="4828680"/>
                <a:ext cx="295200" cy="33300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未知"/>
              <p:cNvSpPr/>
              <p:nvPr/>
            </p:nvSpPr>
            <p:spPr>
              <a:xfrm>
                <a:off x="8485560" y="4854240"/>
                <a:ext cx="474480" cy="29484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080"/>
                <a:ext cx="360360" cy="209160"/>
                <a:chOff x="8542440" y="4897080"/>
                <a:chExt cx="360360" cy="2091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080"/>
                  <a:ext cx="360360" cy="209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040"/>
                  <a:ext cx="289080" cy="161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4880"/>
                  <a:ext cx="198720" cy="129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840" y="4960080"/>
                  <a:ext cx="115560" cy="7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90C7-0942-4E9F-A3C4-EEDB4276D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1BF6-8F17-4FE8-81B3-C2FE604D2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224B-F417-4CEC-8074-B116B02F9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93" name="未知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7305480" y="637236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7296120" y="6343920"/>
              <a:ext cx="936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223120" y="5678640"/>
              <a:ext cx="482760" cy="117648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7807320" y="5640480"/>
              <a:ext cx="49824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461000" y="5869080"/>
              <a:ext cx="43668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7178400" y="5888160"/>
              <a:ext cx="33840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6813360" y="6248520"/>
              <a:ext cx="26532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6508800" y="6382080"/>
              <a:ext cx="263520" cy="47592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未知"/>
            <p:cNvSpPr/>
            <p:nvPr/>
          </p:nvSpPr>
          <p:spPr>
            <a:xfrm>
              <a:off x="6207120" y="6410520"/>
              <a:ext cx="376200" cy="44748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未知"/>
            <p:cNvSpPr/>
            <p:nvPr/>
          </p:nvSpPr>
          <p:spPr>
            <a:xfrm>
              <a:off x="5832360" y="6486840"/>
              <a:ext cx="311040" cy="37116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4832280" y="6696360"/>
              <a:ext cx="141120" cy="16164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C3CD-F185-46B9-9C93-6FEDBAF6715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50" name="未知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未知"/>
            <p:cNvSpPr/>
            <p:nvPr/>
          </p:nvSpPr>
          <p:spPr>
            <a:xfrm>
              <a:off x="7305480" y="637236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7296120" y="6343920"/>
              <a:ext cx="936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8223120" y="5678640"/>
              <a:ext cx="482760" cy="117648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7807320" y="5640480"/>
              <a:ext cx="49824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7461000" y="5869080"/>
              <a:ext cx="43668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7178400" y="5888160"/>
              <a:ext cx="33840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6813360" y="6248520"/>
              <a:ext cx="26532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6508800" y="6382080"/>
              <a:ext cx="263520" cy="47592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6207120" y="6410520"/>
              <a:ext cx="376200" cy="44748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5832360" y="6486840"/>
              <a:ext cx="311040" cy="37116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未知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未知"/>
            <p:cNvSpPr/>
            <p:nvPr/>
          </p:nvSpPr>
          <p:spPr>
            <a:xfrm>
              <a:off x="4832280" y="6696360"/>
              <a:ext cx="141120" cy="16164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CF3F-0718-44F9-8DBC-2B82EB4B465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06" name="未知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未知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未知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未知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A6F3-F27D-414A-BCBC-F529D4BF57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66" name="未知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未知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未知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未知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未知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未知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未知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未知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未知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B9A1-240D-4B4F-B93C-4E5CA3FDA7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欢迎您参加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国家普通话水平测试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819640" y="6524280"/>
            <a:ext cx="7308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二、核对信息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8820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请仔细核对您的个人信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如信息无误，单击“确认”按钮继续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如信息有误，请单击“返回”按钮重新登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如再次登录后信息仍然有误，请告知考务人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324000" y="47628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二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、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核对信息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769440" cy="4802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核对信息后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系统会弹出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“等待考试指令”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字样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此时，请您稍加等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360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ecff"/>
                </a:solidFill>
                <a:latin typeface="Arial"/>
              </a:rPr>
              <a:t>等待考试指令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24000" y="3284280"/>
            <a:ext cx="7164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985080" cy="4762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三、试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请在提示语结束并听到“嘟”的一声后，用正常说话的音量朗读主屏中的个人测试信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本系统会自动调节，以适应您的音量，您不用作任何操作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3745080" cy="11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三、试音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330960" cy="47480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试音结束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系统会弹出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“等待考试指令”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字样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此时，请您稍加等待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33829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ecff"/>
                </a:solidFill>
                <a:latin typeface="Arial"/>
              </a:rPr>
              <a:t>等待考试指令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195640" y="2997360"/>
            <a:ext cx="7272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1476360" y="1711440"/>
            <a:ext cx="6405480" cy="45561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68360" y="477720"/>
            <a:ext cx="461952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四、  开始考试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普通话水平测试共有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项题目，系统会依次显示各项内容，您只需根据屏幕显示的试题内容进行录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每项试题前都有一段语音提示，请在提示语结束并听到“嘟”的一声后，再开始录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8000" y="357120"/>
            <a:ext cx="40431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考试时…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录音过程中，应做到吐字清晰，语速适中，音量同试音时保持大体一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录音过程中，请注意主屏下方的时间提示，确保在规定的时间内完成每项考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29840" y="907560"/>
            <a:ext cx="8713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计算机辅助普通话水平测试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应 试 指 南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上海市语言文字水平测试中心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68360" y="357120"/>
            <a:ext cx="41860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考试时…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规定时间结束，系统会自动进入下一项试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如某项试题时间有余，单击屏幕右下角的“下一题”按钮，可进入下一项试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一项  读单音节字词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190600"/>
            <a:ext cx="8229600" cy="39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请在提示语结束并听到“嘟”的一声后，再开始录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如该项试题时间有余，单击屏幕右下角的“下一题”按钮，可进入下一项试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14440" y="328680"/>
            <a:ext cx="7981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二项  读多音节词语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请在提示语结束并听到“嘟”的一声后，再开始录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如该项试题时间有余，单击屏幕右下角的“下一题”按钮，可进入下一项试题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74160" cy="68072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三项  朗读短文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17040" y="1991880"/>
            <a:ext cx="7929720" cy="32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请在提示语结束并听到“嘟”的一声后，再开始录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如该项试题时间有余，单击屏幕右下角的“下一题”按钮，可进入下一项试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四项  命题说话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请在提示语结束并听到“嘟”的一声后，再开始录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录音开始时，请读出所选话题名称。如：我说的话题是“我尊敬的人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本题必须说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分钟（请按主屏下方的时间提示把握时间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4537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五、结束考试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281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说话结束后，系统会弹出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“恭喜您考试成功，请摘下耳机，轻轻离开考场”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字样，表示考试已结束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此时您不用进行任何操作，即可离开试场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（一） 测 前 准 备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10920" y="2204640"/>
            <a:ext cx="808668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注意验证《准考证》信息是否有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《准考证》应贴上规范的证件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参加测试必须携带《身份证》和《准考证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《准考证》规定的时间准时参加测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360972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ecff"/>
                </a:solidFill>
                <a:latin typeface="Arial"/>
              </a:rPr>
              <a:t>考试结束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851280" y="3212640"/>
            <a:ext cx="7128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480000" cy="4860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33829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ff99"/>
                </a:solidFill>
                <a:latin typeface="黑体"/>
                <a:ea typeface="黑体"/>
              </a:rPr>
              <a:t>特别提示：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2273400"/>
            <a:ext cx="8229600" cy="33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 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考试过程中，考生不要说试卷以外的任何内容，以免影响考试成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如有疑问，请举手示意，工作人员会及时前来解答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24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下面，将所有测试界面连续演示一遍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769240" y="6441840"/>
            <a:ext cx="12384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5640" bIns="356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98000" cy="6899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（二）测试流程简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77979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报到室→准备室→测试室→离开考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98000" cy="6897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计算机辅助测试的几个</a:t>
            </a:r>
            <a:br>
              <a:rPr sz="5400"/>
            </a:br>
            <a:br>
              <a:rPr sz="5400"/>
            </a:b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注  意  事  项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819640" y="6092640"/>
            <a:ext cx="730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6840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  <a:ea typeface="楷体_GB2312"/>
              </a:rPr>
              <a:t>：我有多少时间准备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6776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Verdana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eaeaea"/>
                </a:solidFill>
                <a:latin typeface="Verdana"/>
                <a:ea typeface="楷体_GB2312"/>
              </a:rPr>
              <a:t>答：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计算机测试同人工测试一样，会安排</a:t>
            </a:r>
            <a:r>
              <a:rPr b="1" lang="en-US" sz="3600" spc="-1" strike="noStrike">
                <a:solidFill>
                  <a:srgbClr val="eaeaea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分钟左右时间让考生在准备室作测前准备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939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为何“等待考试指令”有时时间较长？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Verdana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eaeaea"/>
                </a:solidFill>
                <a:latin typeface="Verdana"/>
                <a:ea typeface="楷体_GB2312"/>
              </a:rPr>
              <a:t>答：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所有的考试机是连接在同一个测试平台上的，当所有考生都完成该步骤后，才能进入下一个测试环节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因此，进入测试室后，请您立即登录测试系统，不要延误时间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6624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我用什么样的音量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569080" cy="48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答：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eaeaea"/>
                </a:solidFill>
                <a:latin typeface="Verdana"/>
                <a:ea typeface="楷体_GB2312"/>
              </a:rPr>
              <a:t>正常说话的音量</a:t>
            </a:r>
            <a:r>
              <a:rPr b="1" lang="en-US" sz="3200" spc="-1" strike="noStrike">
                <a:solidFill>
                  <a:srgbClr val="eaeaea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eaeaea"/>
                </a:solidFill>
                <a:latin typeface="Verdana"/>
                <a:ea typeface="楷体_GB2312"/>
              </a:rPr>
              <a:t>一般两、三人之间交谈的音量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eaeaea"/>
                </a:solidFill>
                <a:latin typeface="Verdana"/>
                <a:ea typeface="楷体_GB2312"/>
              </a:rPr>
              <a:t>试音和考试过程音量应一致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提示：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常见问题是说话声音越来越小，嘀嘀咕咕的，像说悄悄话，这样可能会影响录音效果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e855b"/>
                </a:solidFill>
                <a:latin typeface="Arial"/>
                <a:ea typeface="楷体_GB2312"/>
              </a:rPr>
              <a:t>  </a:t>
            </a: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4</a:t>
            </a:r>
            <a:r>
              <a:rPr b="1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什么样的语速合适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0" y="1982880"/>
            <a:ext cx="874872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Verdana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eaeaea"/>
                </a:solidFill>
                <a:latin typeface="Verdana"/>
                <a:ea typeface="楷体_GB2312"/>
              </a:rPr>
              <a:t>答：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每题的时间安排都比较宽裕，测试时要做到吐字清晰完整，语速从容稳当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提示：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常见问题是读得太快。一读快，字与字都粘在一起，每一个字都不清晰，都不完整，都容易有缺陷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5</a:t>
            </a:r>
            <a:r>
              <a:rPr b="1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如何避免漏字、漏行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答：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读字、读词两项容易漏字、漏行。测试时，应看清字、词，从容地朗读，即使有不认识的字，也应揣摩着读一下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尤其在换行时，可稍放慢速度，看清后再读，不要漏行</a:t>
            </a:r>
            <a:r>
              <a:rPr b="1" lang="zh-CN" sz="3200" spc="-1" strike="noStrike">
                <a:solidFill>
                  <a:srgbClr val="eaeaea"/>
                </a:solidFill>
                <a:latin typeface="Verdana"/>
                <a:ea typeface="楷体_GB2312"/>
              </a:rPr>
              <a:t>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提示：    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         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测试时，前三项如果有“漏读”现象是要按字扣分的，所以要注意避免漏读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（三）应 试 注 意 事 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8820000" cy="42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测试时做到音量适中，吐字清晰，语速恰当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说同测试无关的内容，有问题请举手示意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规定程序操作计算机，不进行违规操作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注意维护考场秩序，杜绝作弊行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6408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6</a:t>
            </a:r>
            <a:r>
              <a:rPr b="1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发现读错能重读吗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820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答：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第一项和第二项如果有个别字词读错后重复读一遍，计算机系统会自动进行识别，不会因为一个字的重读而影响整体评分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但不要每个字、词都重复读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提示：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   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考试时沉着冷静，尽量避免错读。</a:t>
            </a:r>
            <a:r>
              <a:rPr b="0" lang="en-US" sz="3600" spc="-1" strike="noStrike">
                <a:solidFill>
                  <a:srgbClr val="5e855b"/>
                </a:solidFill>
                <a:latin typeface="Verdana"/>
                <a:ea typeface="楷体_GB2312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14536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</a:t>
            </a: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7</a:t>
            </a:r>
            <a:r>
              <a:rPr b="1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缺乏对象感怎么办？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答：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调整心态和测试状态，想象着自己是面对着朋友、同伴在说话</a:t>
            </a:r>
            <a:r>
              <a:rPr b="0" lang="zh-CN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。</a:t>
            </a:r>
            <a:r>
              <a:rPr b="0" lang="en-US" sz="5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5191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8</a:t>
            </a:r>
            <a:r>
              <a:rPr b="1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怎样把握时间</a:t>
            </a:r>
            <a:r>
              <a:rPr b="1" lang="zh-CN" sz="4400" spc="-1" strike="noStrike">
                <a:solidFill>
                  <a:srgbClr val="eaeaea"/>
                </a:solidFill>
                <a:latin typeface="Arial"/>
                <a:ea typeface="楷体_GB2312"/>
              </a:rPr>
              <a:t>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67564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答：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每道题目的下方都有时间滚动条，你能清晰地了解每题的用时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前三项的时间很充裕，每项读完通常都会有时间多余，可以点击右下方的“下一题”按钮，系统便会进入下一题测试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eaeaea"/>
                </a:solidFill>
                <a:latin typeface="Verdana"/>
                <a:ea typeface="楷体_GB2312"/>
              </a:rPr>
              <a:t>说话项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也要注意时间滚动条，因为这一项一定要说满三分钟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202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9</a:t>
            </a:r>
            <a:r>
              <a:rPr b="0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、说话项能背稿子吗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4872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答：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说话的</a:t>
            </a:r>
            <a:r>
              <a:rPr b="1" lang="en-US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个题目应事先作充分准备，考试时应按题目要求讲述。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说话项由测试员根据录音评判，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如有背稿子、离题、不断重复、缺时等现象，都会被扣分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10</a:t>
            </a:r>
            <a:r>
              <a:rPr b="1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周围噪音会影响我的成绩吗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-360" y="1773360"/>
            <a:ext cx="8893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e855b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答：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不会！</a:t>
            </a:r>
            <a:r>
              <a:rPr b="1" lang="zh-CN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各个机位有一定的距离</a:t>
            </a:r>
            <a:r>
              <a:rPr b="1" lang="en-US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为保证录音效果，测试选用的话筒能屏蔽别处的声音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提示：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专注于自己的考试，不要刻意去听别人的声音，以免影响自己的发挥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524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11</a:t>
            </a:r>
            <a:r>
              <a:rPr b="1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考场上遇到问题怎么办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62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e855b"/>
                </a:solidFill>
                <a:latin typeface="Verdana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答：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测试前应尽量解决所有操作上的疑问，测试时不要说同测试内容无关的话。如遇问题，应举手示意，由考务人员前来处理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12</a:t>
            </a:r>
            <a:r>
              <a:rPr b="1" lang="zh-CN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测试用计算机可以任意操作吗？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答：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测试时，应按规定程序操作计算机。不要随意操作计算机，不要按动同测试操作无关的其它按钮，也不要拉扯各种连接线，以防出现影响录音的情况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8785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13</a:t>
            </a:r>
            <a:r>
              <a:rPr b="1" lang="zh-CN" sz="4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：考试后《准考证》要上交吗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748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答：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录入准考证号并核对个人信息后，请将《准考证》置于靠走道的考试桌桌上角，以便考务人员收取（《准考证》上的照片要用来制作证书）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 advTm="5000">
    <p:pull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0" y="1988640"/>
            <a:ext cx="91440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祝您顺利通过普通话水平测试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（四）应  试  实  测  程  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91440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由考务人员引导进入计算机测试室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编号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就座后戴上耳机（麦克风戴在左耳），并将话筒置于口腔前方偏下位置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点击“下一步”按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进入机测程序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178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登录准备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616360" cy="4176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一、考生登录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输入您的准考证号的后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位数字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单击“进入”按钮继续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如果输入有误，单击“修改”按钮重新输入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380880" y="457200"/>
            <a:ext cx="685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、考生登录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193080" cy="46497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1T08:27:14Z</dcterms:created>
  <dc:creator>TingSHINN</dc:creator>
  <dc:description/>
  <dc:language>en-US</dc:language>
  <cp:lastModifiedBy>hp</cp:lastModifiedBy>
  <cp:lastPrinted>1899-12-30T00:00:00Z</cp:lastPrinted>
  <dcterms:modified xsi:type="dcterms:W3CDTF">2009-04-10T04:21:33Z</dcterms:modified>
  <cp:revision>88</cp:revision>
  <dc:subject/>
  <dc:title>PowerPoint 演示文稿</dc:title>
</cp:coreProperties>
</file>